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7C1-2A1E-4D2A-9F28-F593E50D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C6D-7F25-491D-9B19-FE170F6B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F7E-9EDF-4F7A-ABBD-97508D1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BAD-4730-4A05-8627-ABEC3046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47E-C1C9-425C-905F-B5C2BD8B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3C8-C130-47F7-A788-297CD53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0F3-41B9-4C63-8F46-852802E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C82-E392-456C-AACD-501C3967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1C0-4B60-4DC9-A6BF-ABD3C94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52F-A57D-4364-BB58-0900E6E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35F-C4B2-44CE-8D11-0C1FFB8D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D9D-AD9A-4D32-A6F1-A5353C5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4770-7ACC-4E02-AAD3-10544613C3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قرعت باب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2000" y="0"/>
            <a:ext cx="5867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قرعت بابك بفرح فتحت لي, طلبت السّعادة بوفرة منحتني, قدّمت لك ذاتي بحنوّ قبلتني,  لا مثل لك يا الهي (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انحناءك عليّ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651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لم يعرفني أحد مثلما عرفتني, لم يغمرني أحد مثلما غمرتني, لم يغفر لي أحد مثلما غفرت لي, لا مثل لك يا الهي (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24360" y="0"/>
            <a:ext cx="5219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في بعدي عنك غرقت في خطيئتي, اسرعت اليّ تابعت خطواتي, أعطيتني حبّك أنعشت حيات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نزولك الى أعماقي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صوتك يشفي جراح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Personal</cp:lastModifiedBy>
  <dcterms:modified xsi:type="dcterms:W3CDTF">2008-04-21T22:26:04Z</dcterms:modified>
  <cp:revision>15</cp:revision>
  <dc:subject/>
  <dc:title>Slide 1</dc:title>
</cp:coreProperties>
</file>